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54C52-25F1-4616-9631-32D209C178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3F806-8074-4E24-AEB7-EB022CEF0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C4271-9B16-4190-8500-9E70D9EC58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8D5-36D4-4A53-AB3D-F7BAA953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69E-309F-4C89-8031-5E9439F1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574F3-341C-4BA7-9698-4E099A87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A7D66-4A69-405C-9A91-D1C33C54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780F4-0368-47D9-9244-E366C716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36A45-020E-40D8-B334-5F258A5A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148A0-7E9A-40FC-B256-753CE73D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27575-93AA-4F0D-BEF4-3FAF214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BBC21-DB89-4497-A845-275761E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B4416-680F-4D35-A191-62646BDE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09E61-AD43-4891-BCC2-8EEBCF24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CAE29-37C9-4BD5-B1CC-095D3935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1F4-ECF9-4295-9C45-841B0816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ED2AF-6C2C-4DD5-8725-4080C589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7231C-1FD0-423D-AF7B-3F7170EE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16A67-E297-4BA8-B073-7ED0DD29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19772-BD03-4CFC-9763-1A8D5D8A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74D34-5974-4371-9FA1-43761362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696E0-24C3-4597-A36B-CA0C6046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69F8F-2E57-4354-A8DB-FCF6174C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0A014-0D37-4F20-AE9A-7DA4479B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1DE72-1955-4AC4-AF91-6B61E4EF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B472D-1255-43EF-92A5-102FE4AF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A4C-E74C-4B64-B70B-FDB2CB8C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FC023-BD90-47B6-8CF8-A8E0F1BF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4949A-718B-4498-ADF2-1B638C86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687D3-B40A-4B56-947D-C512F12F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1D789-5AF4-430C-BFA0-E83EB228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7083B-CB58-4444-9D74-685E71BD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976C8-0DF7-44CC-8D43-CC3C2A3F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F994D-AE3A-408F-B0AA-796C8854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87826-F815-44D8-9FF6-FF7EE6D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68834-CFEC-4105-9AE6-D9B3707D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82E83-7F18-4642-ABA2-B19DB63D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1930-FE88-4FCE-BA36-6741B5AC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D2A93-41F0-455A-815F-8A635FF3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8B2BC-1CBA-43EC-87BA-094B3BD1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37FD9-659E-48BD-A098-1EA29231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A60D9-9202-409D-B0C3-320EAE30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4DA8E-BF1D-4CBE-8C63-4FDEF8A9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8DE95-EFA3-4C9F-A991-5671501D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50B46-5849-4C7A-9BBA-195048C4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E9045-FFEB-4BFE-9E8C-F861F350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D6055-9AF9-4691-A2B0-B5679FB2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5C1B1-AA40-4996-8C2E-DE4CEA9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A24E-D2EF-4DCF-B7D3-3948A142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7ADD9-3B32-4FCA-B437-637C2CE5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DA042-FAF1-41BB-B895-C065802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7B6B1-8211-42E2-B198-54D67591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1298B-1C26-4D99-A58C-6FEDFC4E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6DE59-4461-4467-89E0-04F3000F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73C21-5152-4D6D-98A0-C5242777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0C3F0-747C-4DFC-8532-FED817E5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55136-57B8-4B03-BF35-16464FBB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67E90-7AA6-4214-9216-EDBF2E04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879F2-0330-4D9E-A6D7-AA70C49D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8952-2369-4DA6-85A7-93758237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C9241-B7DF-44D2-849E-638583AB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BB602-692B-4D29-A9AE-9A977B8A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D3B65-C094-496E-AC63-83CF4BF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71BB7-6C70-4D29-81EA-08748A0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D5A8D-9DA3-48BE-86D5-0921529D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1AFCB-E10C-4E32-A906-7EBA2F76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07CF5-E88B-46E5-9A27-DE6711D1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F4380-E43D-493A-81D3-1DAA0408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FA463-6D7F-4108-B534-6A730214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39524-F993-45DD-BC9F-5730F31F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E054-3CAF-446C-A493-750D78BE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1DA70-7FDE-45AC-8861-0BDDE30F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4E340-A4BE-4F53-A96B-54751A61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E7B69-88E7-426C-9FD9-9EDF3A93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FD8E2-C2DF-4C4D-BCC2-CD191F6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30D82-FFA7-4885-8BA6-E4D00455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77788-70C5-4049-AA18-F7A1B543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37941-9A7D-4D19-9F9D-2EFA3828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6DCAF-8C15-4343-8A24-3A52FD40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C50ED-7E6E-47A9-912B-977B7E1F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08EFB-835F-4ACA-822D-B955F69D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D66A-661F-41EE-99D8-DBFAA124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C693A-5908-41AB-A448-C4B7829E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D38A1-E9C1-4DFC-B2B2-853DE68C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E83CC8-D7A7-476B-BD72-3059A038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CF34B-D08F-4B96-B2B5-B801FCA6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455AE-8C8A-49D6-AE39-C2F646E1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3C2F7-005E-4143-9A14-741C6DBB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290BC-85B4-498C-99B4-A651E0D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866890-4024-4803-8A05-D0B36FCB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3BB81-8877-4837-9881-AC082704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09BE4-1B87-4F48-A79E-066D1FB2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AB23-5BAC-440B-8747-03C213BD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B890B-A688-4F7C-8051-8569D978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83C0-1F4F-4C0C-8208-1887D26B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AE9-8269-4ECA-9DCD-F63BFE9A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147E-414E-43DC-8D28-FFB339C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8AA0-7CC2-4DF9-BF57-C8E94D27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8D51-E345-4C8F-8CDD-FFD6078D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1764-645C-4159-B45D-177AB57C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03E1-95CB-4C6E-8A1A-8C7BB372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0053-4CB1-4AE6-861A-84A87F43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804D-164B-453E-A0F3-AB85F860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3843-66E5-47DD-8F68-7F32B59C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CEFB-C823-43DF-97CE-C8C32318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C873-B295-4B75-B860-A7134B6D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C72-5560-4A1D-BAB5-63E1AE60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BCFB-0560-47AB-AC20-95730043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3D4E-4CBE-4D37-B209-E942DD2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E44E8-7B02-4949-8980-6C38958F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FE49-4BF1-4D53-958C-FB7DF9A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FD50-CE41-4E9E-AA1B-A8206F53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9BF7-85EF-44C0-AEE4-984C9470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57BA-510D-4571-B109-94F1A3D4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235B-7289-452F-B525-194DAEE2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45A3B-41E7-4CA5-AF47-A1396344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31A6-BC93-4B47-B218-F4BC29B2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FBE-5247-45B4-AD61-2C24C94F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7CFF6-F51E-42A1-992E-5D80584C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B95A-C073-4C2D-80E2-423551CB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6A01-F2BD-43D2-BA66-8A6607E6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3D6A-F0D2-4E45-832E-FEC6954C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0002-3A54-4616-BA44-A4413744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A6B35-E990-4B99-90AC-EF17BD8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1D400-AC29-4F4B-9E4A-61136854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D011-5B40-4AFC-8C74-A5301BE1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8B9D7-895E-4D95-ABC0-0D6344EC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4BE02-DF09-4662-BF34-3AF0E13A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DC0-2461-4923-B66A-56EFF065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CB69-6405-4BCE-A6FD-5211C5B4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DA3D-4654-47D9-A1B2-5E9ECBB9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B9C2-F773-40C0-ADD1-AE007C28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A830-EA91-44DC-8989-016A6EBC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78DE0-2D60-443D-BCAB-00170086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1813-AA17-45E1-9A08-D5DB9748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BA1D1-0C2A-47A3-8511-7C957F4C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00214-761A-482B-B786-9510CF9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2F808-972E-4BDC-A7BC-C9AD1313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41BD2-24B4-4901-BD72-A9C43305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F82-9033-4181-B920-938C3E8C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EE5CF-653E-4AC9-9836-66286438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F596-FEFF-4508-8805-F3D44AD3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59E53-B7E6-4D81-9E04-DFC4A6EA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74FEE-E0AB-4D48-8462-EB582B93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AE1C7-7D3D-428F-A975-D25B6BCC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33A36-C211-4306-9841-A595FBE9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1204-6668-4030-B7E5-D4A6D072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1416-B388-4586-867B-EC3076F0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72E6E-91B7-4E42-B94C-32112AB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AE126-87D5-4A69-8224-D23E820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7D5-D78C-460E-9E3E-BA424434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A2FD-6509-47F3-9E62-83545954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40C50-CC1B-4483-8A4F-A0C9E558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AE3D3-CDF6-4090-9EED-B90051C7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1786F-FDC0-4B34-8FA3-1D017E8F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4B9F-1794-4276-9569-54640073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72D5A-FDB9-4208-B1C6-577EE41C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DB43-31A4-41D4-BDE3-DC3CFC4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2839-921C-48B7-B447-2159A2FF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55FA5-83B7-40A1-A9D7-0B7DCFD9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70103-EE6A-40D5-AEDA-93233D75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7DA-90D6-47DF-8B06-5758457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4A08-8A4D-4737-B359-6632DC15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705A6-3DB1-456C-80DF-A2ABA9BC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7235E-1CB1-4D60-BDF7-E0E8BF6D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012C3-8515-45AF-AF01-7CD69DF9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5B6CF-1562-4AF7-A7CF-DA930BF5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780B0-C9C8-470C-AA38-6AE0CCC7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2F26-93EE-4964-AA33-61458DFF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C1327-FCCE-470E-9D08-99BDC1A3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90F9-DE19-4E0D-9FCA-0F912A36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6FC7E-8426-4858-8FE5-20C2066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45F-776B-4D77-8C9D-ACC17439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52FF0-DFF8-497B-9DFB-12F7FF72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5237A-D1BD-4DD9-89CD-7CF4F8C7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29285-EBB8-49BF-9771-243500A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EA977-33AD-4136-9BC8-D6F7F5CC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67FBC-95A3-4FF6-B978-E6F2399E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40A2-FF6C-4275-A726-9AC84702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DEA1-4409-4CEC-BC73-DF2CDE17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29937-FE70-41C8-8714-4CDB6717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10717-60CD-4160-9B61-F288EB14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34CDB-7EB1-4405-96C3-F0A46547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DDE62-2A88-4B95-A107-6FEB908D3B99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9245D-2AA7-4972-9963-F21B19A3D8F8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8F15F-3B67-4589-B3DB-B9FCFC921CFA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4BB9F-2ED8-4369-B893-C4DAFC5C5C58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01F56-2370-4103-A403-52ED86CE76E8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02CB9-2761-4728-835C-A636CBBF5417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39593-E0CD-4D25-80B8-548F06CA7D7D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93279-CF2C-4363-B72B-808DE5C8D17B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C5A39-F17E-4CC7-B40B-40D62A201F15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5D0AE-4BB2-4838-B39F-7E082325448D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D6AC2-6FA2-4894-9FF8-6076914A931D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B542B-E7E9-4561-8171-E60DD8270977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F78AA-5DDC-408F-8FA9-ADE9AA2C3699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52446-5A96-420E-AE7E-092C0AA4FF76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7E354-1927-4086-AAD5-5CDDF88C2598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63405-4F32-429F-AA4F-13A7174AA383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3BBF9-9222-4D5F-8E49-5F588553C291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2ADC1-2BB4-476F-90FA-B7E14AE909A1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5E773-7CC3-45BB-8705-D1F1A301BBDC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986E8-56EE-4E6A-911F-33734F92A8CB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5B71C-4C4A-44AD-8A58-3E1D98817D2D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E70C5-EE1C-4D48-904A-FF3FABA014F4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40D1D-B3FA-43CE-A7A5-BB816B7043E7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7C320-C441-4B7B-8FB3-5FADE9DCB58A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B1FD9-97A7-4FFC-9D8A-E734E841A98D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9BEB0-14AB-49B5-A704-C4474B28A670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89A53-07E9-4A2E-B124-B44F02906483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31FAE-0D3C-41CF-94FD-601ACD7E6D21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2f1f58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3B3FC-2247-4207-8362-70BE9A3CA0A7}" type="datetime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E963B-8BB6-4683-98E3-12E249CE8072}" type="slidenum">
              <a:rPr b="0" lang="en-US" sz="1200" spc="-1" strike="noStrike">
                <a:solidFill>
                  <a:srgbClr val="2f1f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 rot="685200">
            <a:off x="2216880" y="-779400"/>
            <a:ext cx="80010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eleine Albright</a:t>
            </a:r>
            <a:endParaRPr b="0" lang="en-US" sz="5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 rot="20979000">
            <a:off x="2863080" y="48189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pple Casual"/>
                <a:ea typeface="Apple Casual"/>
              </a:rPr>
              <a:t>Immigrant Research 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pple Casual"/>
                <a:ea typeface="Apple Casual"/>
              </a:rPr>
              <a:t>By: Caroline Field</a:t>
            </a:r>
            <a:endParaRPr b="0" lang="en-US" sz="3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60" name="Picture 3" descr="Albrightmadeleine.jpg"/>
          <p:cNvPicPr/>
          <p:nvPr/>
        </p:nvPicPr>
        <p:blipFill>
          <a:blip r:embed="rId2"/>
          <a:stretch/>
        </p:blipFill>
        <p:spPr>
          <a:xfrm>
            <a:off x="652320" y="1371600"/>
            <a:ext cx="4038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Interesting facts about Madeleine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89" name="Content Placeholder 3" descr="tn_jewish700.gif"/>
          <p:cNvPicPr/>
          <p:nvPr/>
        </p:nvPicPr>
        <p:blipFill>
          <a:blip r:embed="rId2"/>
          <a:srcRect l="-46221" t="0" r="-46221" b="0"/>
          <a:stretch/>
        </p:blipFill>
        <p:spPr>
          <a:xfrm rot="20949600">
            <a:off x="0" y="1143000"/>
            <a:ext cx="2743200" cy="1411200"/>
          </a:xfrm>
          <a:prstGeom prst="rect">
            <a:avLst/>
          </a:prstGeom>
          <a:ln w="0">
            <a:noFill/>
          </a:ln>
        </p:spPr>
      </p:pic>
      <p:sp>
        <p:nvSpPr>
          <p:cNvPr id="690" name="TextBox 4"/>
          <p:cNvSpPr/>
          <p:nvPr/>
        </p:nvSpPr>
        <p:spPr>
          <a:xfrm>
            <a:off x="2851200" y="2286000"/>
            <a:ext cx="263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did not know she was Jewish and that her grandparents died in a concentration camp until the 1990’s.  This is interesting because she ran away from the Nazis before she knew she was Jewish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Bibliography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71680" y="190512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asual"/>
                <a:ea typeface="Apple Casual"/>
              </a:rPr>
              <a:t>Encyclopedia of World Biography online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amsecretary.com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pple Casual"/>
                <a:ea typeface="Apple Casual"/>
              </a:rPr>
              <a:t>kids.yahoo.com/search?p=+madeleine+albright&amp;x=0&amp;y=0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93" name="Picture 3" descr="Clipart-Cartoon-Design-01.gif"/>
          <p:cNvPicPr/>
          <p:nvPr/>
        </p:nvPicPr>
        <p:blipFill>
          <a:blip r:embed="rId2"/>
          <a:stretch/>
        </p:blipFill>
        <p:spPr>
          <a:xfrm rot="1234800">
            <a:off x="6814800" y="507600"/>
            <a:ext cx="1819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Date of Birth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eleine Albright was born on May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pple Casual"/>
                <a:ea typeface="Apple Casu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pple Casual"/>
                <a:ea typeface="Apple Casual"/>
              </a:rPr>
              <a:t>, 1937.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pple Casual"/>
                <a:ea typeface="Apple Casual"/>
              </a:rPr>
              <a:t>Interesting fact: This is also my birthday (except for the year)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63" name="Picture 3" descr="birthday_cake.jpg"/>
          <p:cNvPicPr/>
          <p:nvPr/>
        </p:nvPicPr>
        <p:blipFill>
          <a:blip r:embed="rId2"/>
          <a:stretch/>
        </p:blipFill>
        <p:spPr>
          <a:xfrm>
            <a:off x="6629400" y="4343400"/>
            <a:ext cx="218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Why Madeleine left her </a:t>
            </a: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home country…      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65" name="Content Placeholder 3" descr="czech-flag.jpg"/>
          <p:cNvPicPr/>
          <p:nvPr/>
        </p:nvPicPr>
        <p:blipFill>
          <a:blip r:embed="rId2"/>
          <a:srcRect l="-14803" t="0" r="-14803" b="0"/>
          <a:stretch/>
        </p:blipFill>
        <p:spPr>
          <a:xfrm rot="20335800">
            <a:off x="156960" y="1193400"/>
            <a:ext cx="2652480" cy="13636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american-flag.gif"/>
          <p:cNvPicPr/>
          <p:nvPr/>
        </p:nvPicPr>
        <p:blipFill>
          <a:blip r:embed="rId3"/>
          <a:stretch/>
        </p:blipFill>
        <p:spPr>
          <a:xfrm rot="2052600">
            <a:off x="6876720" y="2319120"/>
            <a:ext cx="2070000" cy="1339560"/>
          </a:xfrm>
          <a:prstGeom prst="rect">
            <a:avLst/>
          </a:prstGeom>
          <a:ln w="0">
            <a:noFill/>
          </a:ln>
        </p:spPr>
      </p:pic>
      <p:sp>
        <p:nvSpPr>
          <p:cNvPr id="667" name="TextBox 5"/>
          <p:cNvSpPr/>
          <p:nvPr/>
        </p:nvSpPr>
        <p:spPr>
          <a:xfrm>
            <a:off x="1143000" y="3276720"/>
            <a:ext cx="5791320" cy="916920"/>
          </a:xfrm>
          <a:prstGeom prst="rect">
            <a:avLst/>
          </a:prstGeom>
          <a:solidFill>
            <a:srgbClr val="c2e8c4"/>
          </a:solidFill>
          <a:ln w="25560">
            <a:solidFill>
              <a:srgbClr val="8eaa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left her home country because the Nazis were invading and it was a hard time where she lived and that’s the only way she would be safe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When did Madeleine immigrate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69" name="Content Placeholder 3" descr="madeline.jpg"/>
          <p:cNvPicPr/>
          <p:nvPr/>
        </p:nvPicPr>
        <p:blipFill>
          <a:blip r:embed="rId2"/>
          <a:srcRect l="-91684" t="0" r="-91684" b="0"/>
          <a:stretch/>
        </p:blipFill>
        <p:spPr>
          <a:xfrm rot="21140400">
            <a:off x="-1746360" y="3553920"/>
            <a:ext cx="6527880" cy="2984760"/>
          </a:xfrm>
          <a:prstGeom prst="rect">
            <a:avLst/>
          </a:prstGeom>
          <a:ln w="0">
            <a:noFill/>
          </a:ln>
        </p:spPr>
      </p:pic>
      <p:sp>
        <p:nvSpPr>
          <p:cNvPr id="670" name="TextBox 4"/>
          <p:cNvSpPr/>
          <p:nvPr/>
        </p:nvSpPr>
        <p:spPr>
          <a:xfrm>
            <a:off x="3276720" y="3352680"/>
            <a:ext cx="5486400" cy="642600"/>
          </a:xfrm>
          <a:prstGeom prst="rect">
            <a:avLst/>
          </a:prstGeom>
          <a:solidFill>
            <a:srgbClr val="8c73d0"/>
          </a:solidFill>
          <a:ln w="25560">
            <a:solidFill>
              <a:srgbClr val="6553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came to the united states when she was 11 in 1948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How Madeleine traveled to America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72" name="Content Placeholder 3" descr="ship-83.gif"/>
          <p:cNvPicPr/>
          <p:nvPr/>
        </p:nvPicPr>
        <p:blipFill>
          <a:blip r:embed="rId2"/>
          <a:srcRect l="-45198" t="0" r="-45198" b="0"/>
          <a:stretch/>
        </p:blipFill>
        <p:spPr>
          <a:xfrm rot="900600">
            <a:off x="5757840" y="1236240"/>
            <a:ext cx="3924360" cy="2017800"/>
          </a:xfrm>
          <a:prstGeom prst="rect">
            <a:avLst/>
          </a:prstGeom>
          <a:ln w="0">
            <a:noFill/>
          </a:ln>
        </p:spPr>
      </p:pic>
      <p:sp>
        <p:nvSpPr>
          <p:cNvPr id="673" name="TextBox 4"/>
          <p:cNvSpPr/>
          <p:nvPr/>
        </p:nvSpPr>
        <p:spPr>
          <a:xfrm>
            <a:off x="1447920" y="3505320"/>
            <a:ext cx="4114800" cy="642600"/>
          </a:xfrm>
          <a:prstGeom prst="rect">
            <a:avLst/>
          </a:prstGeom>
          <a:solidFill>
            <a:srgbClr val="c5a6e8"/>
          </a:solidFill>
          <a:ln w="25560">
            <a:solidFill>
              <a:srgbClr val="907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probably came on a boat but research does not say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eleine’s life before America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75" name="Content Placeholder 3" descr="ReligionPolitics-764331.jpg"/>
          <p:cNvPicPr/>
          <p:nvPr/>
        </p:nvPicPr>
        <p:blipFill>
          <a:blip r:embed="rId2"/>
          <a:srcRect l="-27772" t="0" r="-27772" b="0"/>
          <a:stretch/>
        </p:blipFill>
        <p:spPr>
          <a:xfrm>
            <a:off x="5334120" y="9144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76" name="TextBox 4" descr=""/>
          <p:cNvPicPr/>
          <p:nvPr/>
        </p:nvPicPr>
        <p:blipFill>
          <a:blip r:embed="rId3"/>
          <a:stretch/>
        </p:blipFill>
        <p:spPr>
          <a:xfrm>
            <a:off x="1616040" y="3133800"/>
            <a:ext cx="387036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1320" y="7617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Challenges Madeleine faced when she came to America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78" name="Content Placeholder 3" descr="393812.jpg"/>
          <p:cNvPicPr/>
          <p:nvPr/>
        </p:nvPicPr>
        <p:blipFill>
          <a:blip r:embed="rId2"/>
          <a:srcRect l="-26552" t="0" r="-26552" b="0"/>
          <a:stretch/>
        </p:blipFill>
        <p:spPr>
          <a:xfrm>
            <a:off x="2571840" y="4800600"/>
            <a:ext cx="4000320" cy="2057400"/>
          </a:xfrm>
          <a:prstGeom prst="rect">
            <a:avLst/>
          </a:prstGeom>
          <a:ln w="0">
            <a:noFill/>
          </a:ln>
        </p:spPr>
      </p:pic>
      <p:pic>
        <p:nvPicPr>
          <p:cNvPr id="679" name="TextBox 4" descr=""/>
          <p:cNvPicPr/>
          <p:nvPr/>
        </p:nvPicPr>
        <p:blipFill>
          <a:blip r:embed="rId3"/>
          <a:stretch/>
        </p:blipFill>
        <p:spPr>
          <a:xfrm>
            <a:off x="3067200" y="2298600"/>
            <a:ext cx="32544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Madeleine overcoming challenges…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81" name="Content Placeholder 3" descr="school-clipart.jpg"/>
          <p:cNvPicPr/>
          <p:nvPr/>
        </p:nvPicPr>
        <p:blipFill>
          <a:blip r:embed="rId2"/>
          <a:srcRect l="-35551" t="0" r="-35551" b="0"/>
          <a:stretch/>
        </p:blipFill>
        <p:spPr>
          <a:xfrm rot="20636400">
            <a:off x="-490320" y="1128600"/>
            <a:ext cx="3780000" cy="1944720"/>
          </a:xfrm>
          <a:prstGeom prst="rect">
            <a:avLst/>
          </a:prstGeom>
          <a:ln w="0">
            <a:noFill/>
          </a:ln>
        </p:spPr>
      </p:pic>
      <p:grpSp>
        <p:nvGrpSpPr>
          <p:cNvPr id="682" name="TextBox 4"/>
          <p:cNvGrpSpPr/>
          <p:nvPr/>
        </p:nvGrpSpPr>
        <p:grpSpPr>
          <a:xfrm>
            <a:off x="3011400" y="1762200"/>
            <a:ext cx="3786120" cy="1359000"/>
            <a:chOff x="3011400" y="1762200"/>
            <a:chExt cx="3786120" cy="1359000"/>
          </a:xfrm>
        </p:grpSpPr>
        <p:pic>
          <p:nvPicPr>
            <p:cNvPr id="683" name="TextBox 4" descr=""/>
            <p:cNvPicPr/>
            <p:nvPr/>
          </p:nvPicPr>
          <p:blipFill>
            <a:blip r:embed="rId3"/>
            <a:stretch/>
          </p:blipFill>
          <p:spPr>
            <a:xfrm>
              <a:off x="3011400" y="1762200"/>
              <a:ext cx="37861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3124080" y="1828800"/>
              <a:ext cx="358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sto MT"/>
                </a:rPr>
                <a:t>She overcame challenges by going to school and collage and her education helped her become successful in politics. </a:t>
              </a:r>
              <a:endParaRPr b="0" lang="en-US" sz="1800" spc="-1" strike="noStrike">
                <a:solidFill>
                  <a:srgbClr val="ffffff"/>
                </a:solidFill>
                <a:latin typeface="Calisto M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71320" y="9144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pple Casual"/>
                <a:ea typeface="Apple Casual"/>
              </a:rPr>
              <a:t>How Madeleine contributed to U.S. culture… </a:t>
            </a:r>
            <a:endParaRPr b="0" lang="en-US" sz="54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686" name="Content Placeholder 3" descr="politics032608_fullsize_story1.jpg"/>
          <p:cNvPicPr/>
          <p:nvPr/>
        </p:nvPicPr>
        <p:blipFill>
          <a:blip r:embed="rId2"/>
          <a:srcRect l="-23006" t="0" r="-23006" b="0"/>
          <a:stretch/>
        </p:blipFill>
        <p:spPr>
          <a:xfrm>
            <a:off x="6019920" y="4952880"/>
            <a:ext cx="3703680" cy="1905120"/>
          </a:xfrm>
          <a:prstGeom prst="rect">
            <a:avLst/>
          </a:prstGeom>
          <a:ln w="0">
            <a:noFill/>
          </a:ln>
        </p:spPr>
      </p:pic>
      <p:sp>
        <p:nvSpPr>
          <p:cNvPr id="687" name="TextBox 4"/>
          <p:cNvSpPr/>
          <p:nvPr/>
        </p:nvSpPr>
        <p:spPr>
          <a:xfrm>
            <a:off x="1523880" y="2819520"/>
            <a:ext cx="4267440" cy="1191240"/>
          </a:xfrm>
          <a:prstGeom prst="rect">
            <a:avLst/>
          </a:prstGeom>
          <a:solidFill>
            <a:srgbClr val="95c5b0"/>
          </a:solidFill>
          <a:ln w="25560">
            <a:solidFill>
              <a:srgbClr val="6c9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he was very involved in politics and was the first female Secretary of State. Also she fought very hard for women’s rights.</a:t>
            </a: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3:11:13Z</dcterms:created>
  <dc:creator>Caroline Field</dc:creator>
  <dc:description/>
  <dc:language>en-US</dc:language>
  <cp:lastModifiedBy>Caroline Field</cp:lastModifiedBy>
  <dcterms:modified xsi:type="dcterms:W3CDTF">2010-03-18T00:45:51Z</dcterms:modified>
  <cp:revision>4</cp:revision>
  <dc:subject/>
  <dc:title>Madeleine Albright</dc:title>
</cp:coreProperties>
</file>